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165-ACF9-461A-855F-0C9E4236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CE2-E519-46F0-A843-27118628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91D-B2DA-4E9C-896E-C9A74562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193-9A49-4E59-A752-2B8851AA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11C-7218-46BD-8DEB-BEBEBE8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F86-8CD7-4343-B131-0156D91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D54-AD83-4106-8AF8-EE20448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1A2-21CE-4395-8063-D6D49A65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0AF-C5A4-494D-9B40-67E2A86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8F0-1856-46EF-A90C-B7FFDA3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7CC-5CA3-4A85-B589-B50C0FB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A58-A0B4-48E3-9C8A-718066A1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54F-D451-4208-8BDC-A913230C54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Ce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le</a:t>
            </a: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br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at</a:t>
            </a: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io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By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Val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eri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Ch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áve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z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Te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jed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Showcard Gothic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cc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Holy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week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Traditional festivity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celebrated in all the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 city.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It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last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8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day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4643280" y="2205000"/>
            <a:ext cx="38894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Gothic"/>
              </a:rPr>
              <a:t>Holy week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Showcard Gothic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The anniversary  of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the creation of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naz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It is celebrated 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the 23rd of January,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it is a traditiona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fes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ca_nazca_lines_02"/>
          <p:cNvPicPr/>
          <p:nvPr/>
        </p:nvPicPr>
        <p:blipFill>
          <a:blip r:embed="rId1"/>
          <a:stretch/>
        </p:blipFill>
        <p:spPr>
          <a:xfrm>
            <a:off x="395280" y="1916280"/>
            <a:ext cx="40384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93b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Showcard Gothic"/>
              </a:rPr>
              <a:t>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Virgin of th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Candelari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It is celebrated th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2nd of February.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this celebration last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eighteen days and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you can se mor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than two thousand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dan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ndelaria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Showcard Gothic"/>
              </a:rPr>
              <a:t>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Virgin of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uadalu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It is celebrated o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cemb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rc-virgen_rosario"/>
          <p:cNvPicPr/>
          <p:nvPr/>
        </p:nvPicPr>
        <p:blipFill>
          <a:blip r:embed="rId1"/>
          <a:stretch/>
        </p:blipFill>
        <p:spPr>
          <a:xfrm>
            <a:off x="826920" y="404640"/>
            <a:ext cx="22780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33cc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ccff"/>
                </a:solidFill>
                <a:latin typeface="Showcard Gothic"/>
              </a:rPr>
              <a:t>Thank</a:t>
            </a:r>
            <a:r>
              <a:rPr b="0" lang="en-US" sz="8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8800" spc="-1" strike="noStrike">
                <a:solidFill>
                  <a:srgbClr val="99cc00"/>
                </a:solidFill>
                <a:latin typeface="Showcard Gothic"/>
              </a:rPr>
              <a:t>You (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2:15:02Z</dcterms:created>
  <dc:creator>Usuario</dc:creator>
  <dc:description/>
  <dc:language>en-US</dc:language>
  <cp:lastModifiedBy>Computo</cp:lastModifiedBy>
  <dcterms:modified xsi:type="dcterms:W3CDTF">2009-06-09T15:57:10Z</dcterms:modified>
  <cp:revision>6</cp:revision>
  <dc:subject/>
  <dc:title>Celebrations</dc:title>
</cp:coreProperties>
</file>